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807-0AC2-4484-A74B-A9FD17DD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941-9C3E-416F-A593-87024638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100-5EF1-4C60-A66B-3CCA075D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841C-E712-450C-B42A-793D7CD8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462-D4AA-47AE-AEC1-4F765C7C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21D-BF3C-43E0-9FE1-7DD45266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3B8-67DA-49F9-8A66-2B0269D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164F-3FFF-4ECC-A5E2-489C2EF1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F50-3FF4-4581-B108-BB42F579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074-9AE2-4561-A98B-8F75DD1B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F6C7-9518-4506-A2C1-E5CB1276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31E-2538-4E4A-9E6E-D98220C0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820B-622E-415C-ACB9-1512F581E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http://www.psu.edu/" TargetMode="External"/><Relationship Id="rId7" Type="http://schemas.openxmlformats.org/officeDocument/2006/relationships/image" Target="../media/image6.png"/><Relationship Id="rId8" Type="http://schemas.openxmlformats.org/officeDocument/2006/relationships/hyperlink" Target="http://www.construction-institute.org/scriptcontent/Index.cfm" TargetMode="External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a6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bowers.JPG"/>
          <p:cNvPicPr/>
          <p:nvPr/>
        </p:nvPicPr>
        <p:blipFill>
          <a:blip r:embed="rId1">
            <a:lum bright="-10000"/>
          </a:blip>
          <a:srcRect l="25001" t="10813" r="7502" b="0"/>
          <a:stretch/>
        </p:blipFill>
        <p:spPr>
          <a:xfrm>
            <a:off x="76320" y="4038480"/>
            <a:ext cx="1904760" cy="274320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2" name="Picture 11" descr="katz_night_LG.jpg"/>
          <p:cNvPicPr/>
          <p:nvPr/>
        </p:nvPicPr>
        <p:blipFill>
          <a:blip r:embed="rId2">
            <a:lum contrast="10000"/>
          </a:blip>
          <a:srcRect l="69457" t="0" r="0" b="0"/>
          <a:stretch/>
        </p:blipFill>
        <p:spPr>
          <a:xfrm>
            <a:off x="8153280" y="76320"/>
            <a:ext cx="914400" cy="3886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3" name="Picture 7" descr="katz_night_LG.jp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2057400" y="4038480"/>
            <a:ext cx="7010280" cy="274320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44" name="Rectangle 3"/>
          <p:cNvSpPr/>
          <p:nvPr/>
        </p:nvSpPr>
        <p:spPr>
          <a:xfrm>
            <a:off x="76320" y="76320"/>
            <a:ext cx="8001000" cy="3886200"/>
          </a:xfrm>
          <a:prstGeom prst="rect">
            <a:avLst/>
          </a:prstGeom>
          <a:gradFill rotWithShape="0">
            <a:gsLst>
              <a:gs pos="0">
                <a:srgbClr val="591816"/>
              </a:gs>
              <a:gs pos="100000">
                <a:srgbClr val="9c302e"/>
              </a:gs>
            </a:gsLst>
            <a:lin ang="16200000"/>
          </a:gradFill>
          <a:ln cap="rnd"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0" y="0"/>
            <a:ext cx="5867280" cy="1739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katz_night_LG.jpg"/>
          <p:cNvPicPr/>
          <p:nvPr/>
        </p:nvPicPr>
        <p:blipFill>
          <a:blip r:embed="rId4">
            <a:lum bright="-10000"/>
          </a:blip>
          <a:srcRect l="56153" t="0" r="0" b="6903"/>
          <a:stretch/>
        </p:blipFill>
        <p:spPr>
          <a:xfrm>
            <a:off x="8153280" y="76320"/>
            <a:ext cx="914400" cy="388620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7" name="Picture 2" descr="PACE: The Partnership for Achieving Construction Excellence"/>
          <p:cNvPicPr/>
          <p:nvPr/>
        </p:nvPicPr>
        <p:blipFill>
          <a:blip r:embed="rId5"/>
          <a:stretch/>
        </p:blipFill>
        <p:spPr>
          <a:xfrm>
            <a:off x="1828800" y="342900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Penn State Office of Physical Plan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II 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629400" y="167652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pankowfoundation.org/images/pankow_site_logo.gif"/>
          <p:cNvPicPr/>
          <p:nvPr/>
        </p:nvPicPr>
        <p:blipFill>
          <a:blip r:embed="rId10"/>
          <a:srcRect l="0" t="0" r="0" b="8522"/>
          <a:stretch/>
        </p:blipFill>
        <p:spPr>
          <a:xfrm>
            <a:off x="6324480" y="304920"/>
            <a:ext cx="1484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to D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533520" y="1295280"/>
            <a:ext cx="7924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terature review under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view questions developed, and initial interviews star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rrently developing interviewe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ki Setup - BIM 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uildingSMART All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ACE Confer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aduate Course Setup for Fall 20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dvisory Board 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urrently 7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asks this Summ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33520" y="1295280"/>
            <a:ext cx="7924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rform 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nning (Chitw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ign (Neve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truction (Cra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ration (Colle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velop Decision Matrix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e 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cilitate BIM Execution Pl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vestigate previous 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pare for fall semester BIM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533520" y="129528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533520" y="12952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xt Meeting Ti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1596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1" name="Rectangle 2"/>
          <p:cNvSpPr/>
          <p:nvPr/>
        </p:nvSpPr>
        <p:spPr>
          <a:xfrm>
            <a:off x="533520" y="76320"/>
            <a:ext cx="8534160" cy="1143000"/>
          </a:xfrm>
          <a:prstGeom prst="rect">
            <a:avLst/>
          </a:prstGeom>
          <a:gradFill rotWithShape="0">
            <a:gsLst>
              <a:gs pos="0">
                <a:srgbClr val="591816"/>
              </a:gs>
              <a:gs pos="100000">
                <a:srgbClr val="9c302e"/>
              </a:gs>
            </a:gsLst>
            <a:lin ang="16200000"/>
          </a:gradFill>
          <a:ln w="25560">
            <a:solidFill>
              <a:srgbClr val="63252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533520" y="1295280"/>
            <a:ext cx="8534160" cy="5486400"/>
          </a:xfrm>
          <a:prstGeom prst="rect">
            <a:avLst/>
          </a:prstGeom>
          <a:gradFill rotWithShape="0">
            <a:gsLst>
              <a:gs pos="0">
                <a:srgbClr val="21172e"/>
              </a:gs>
              <a:gs pos="100000">
                <a:srgbClr val="402f54"/>
              </a:gs>
            </a:gsLst>
            <a:lin ang="16200000"/>
          </a:gradFill>
          <a:ln w="255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609480" y="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pons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609480" y="137160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nstruction Industry Institute (CI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enn State – Office of Physical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ildingSMART Al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buildingSMART alliance"/>
          <p:cNvPicPr/>
          <p:nvPr/>
        </p:nvPicPr>
        <p:blipFill>
          <a:blip r:embed="rId2"/>
          <a:stretch/>
        </p:blipFill>
        <p:spPr>
          <a:xfrm>
            <a:off x="1066680" y="6427800"/>
            <a:ext cx="2971800" cy="35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engr.psu.edu/ae/cic/images/title.jpg"/>
          <p:cNvPicPr/>
          <p:nvPr/>
        </p:nvPicPr>
        <p:blipFill>
          <a:blip r:embed="rId3"/>
          <a:stretch/>
        </p:blipFill>
        <p:spPr>
          <a:xfrm>
            <a:off x="5796000" y="6400800"/>
            <a:ext cx="2967120" cy="36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PACE: The Partnership for Achieving Construction Excellence"/>
          <p:cNvPicPr/>
          <p:nvPr/>
        </p:nvPicPr>
        <p:blipFill>
          <a:blip r:embed="rId4"/>
          <a:stretch/>
        </p:blipFill>
        <p:spPr>
          <a:xfrm>
            <a:off x="533520" y="5715000"/>
            <a:ext cx="4524120" cy="38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Penn State Office of Physical Plant"/>
          <p:cNvPicPr/>
          <p:nvPr/>
        </p:nvPicPr>
        <p:blipFill>
          <a:blip r:embed="rId5"/>
          <a:stretch/>
        </p:blipFill>
        <p:spPr>
          <a:xfrm>
            <a:off x="6324480" y="551484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II logo"/>
          <p:cNvPicPr/>
          <p:nvPr/>
        </p:nvPicPr>
        <p:blipFill>
          <a:blip r:embed="rId6"/>
          <a:stretch/>
        </p:blipFill>
        <p:spPr>
          <a:xfrm>
            <a:off x="6858000" y="441972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www.pankowfoundation.org/images/pankow_site_logo.gif"/>
          <p:cNvPicPr/>
          <p:nvPr/>
        </p:nvPicPr>
        <p:blipFill>
          <a:blip r:embed="rId7"/>
          <a:srcRect l="0" t="0" r="0" b="8522"/>
          <a:stretch/>
        </p:blipFill>
        <p:spPr>
          <a:xfrm>
            <a:off x="1828800" y="4343400"/>
            <a:ext cx="14842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33520" y="1295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cussion of Project and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t Up Next Meeting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solidFill>
            <a:srgbClr val="4f81bd">
              <a:alpha val="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uildingSMART Project T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019920" y="2057400"/>
            <a:ext cx="2361960" cy="3124080"/>
          </a:xfrm>
          <a:prstGeom prst="rect">
            <a:avLst/>
          </a:prstGeom>
          <a:solidFill>
            <a:srgbClr val="4f81bd">
              <a:alpha val="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Advisory Bo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990720" y="2057400"/>
            <a:ext cx="4572000" cy="3200400"/>
          </a:xfrm>
          <a:prstGeom prst="rect">
            <a:avLst/>
          </a:prstGeom>
          <a:solidFill>
            <a:srgbClr val="4f81bd">
              <a:alpha val="9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CIC Research Gro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Penn Sta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990720" y="2057400"/>
            <a:ext cx="457200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ohn Messner, Ph.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rector of Computer Integra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onstruction (CIC) Research 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roposed Grant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3429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raig Dubl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286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evena Zik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572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lleen Kasprza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6019920" y="2057400"/>
            <a:ext cx="2361960" cy="733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ana “Deke” Smith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uildingSMART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Alli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Industry Champ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6"/>
          <p:cNvSpPr/>
          <p:nvPr/>
        </p:nvSpPr>
        <p:spPr>
          <a:xfrm>
            <a:off x="6477120" y="289548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ictor Sanvi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7"/>
          <p:cNvSpPr/>
          <p:nvPr/>
        </p:nvSpPr>
        <p:spPr>
          <a:xfrm>
            <a:off x="6477120" y="327672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rancoi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rob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6477120" y="365760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ev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a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6477120" y="4038480"/>
            <a:ext cx="144756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a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Koushes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24"/>
          <p:cNvSpPr/>
          <p:nvPr/>
        </p:nvSpPr>
        <p:spPr>
          <a:xfrm>
            <a:off x="5638680" y="3429000"/>
            <a:ext cx="381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133720" y="3962520"/>
            <a:ext cx="243828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Undergraduate Stud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6477120" y="4419720"/>
            <a:ext cx="144756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mbers T.B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143000" y="3200400"/>
            <a:ext cx="9907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hitwan Saluj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33520" y="1295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ny owners and project teams are struggling with   defining the appropriate level of modeling to perform on a project based on the current state of practice and future information need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33520" y="1295280"/>
            <a:ext cx="81532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BIM methods and implementation strategies organized by project ph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nning, Design, Construction,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 implementation guidelines and best practice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seminate the 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ive execution planning computer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esentations at national conferences e.g. buildingSMART, AIA, AGC BIMForum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ticles in industry and academic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Go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33520" y="1295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 a guide that will focus on the decisions required to implement Building Information Modeling throughout the stages of a building pro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Deliver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533520" y="1295280"/>
            <a:ext cx="8153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cludes decision matrix and guidelines for BIM implementation at various project ph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sted and distributed through the buildingSMART Alli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sy to use application for guiding a team through the decisions required for BIM imple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33520" y="1295280"/>
            <a:ext cx="79246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ailed Literature Review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gaps in current 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methods, opportunities, and challenges encountered with the adoption of BI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aluate BIM implementation on curr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Office of Physical Pl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rshey Medical Cen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acobs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E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E class – BIM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ilestone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N:\CIC\Pankow\Final_Schedule.jpg"/>
          <p:cNvPicPr/>
          <p:nvPr/>
        </p:nvPicPr>
        <p:blipFill>
          <a:blip r:embed="rId2"/>
          <a:srcRect l="2752" t="2381" r="2752" b="2872"/>
          <a:stretch/>
        </p:blipFill>
        <p:spPr>
          <a:xfrm>
            <a:off x="609480" y="1371600"/>
            <a:ext cx="8382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crd137</cp:lastModifiedBy>
  <dcterms:modified xsi:type="dcterms:W3CDTF">2008-06-17T19:09:07Z</dcterms:modified>
  <cp:revision>14</cp:revision>
  <dc:subject/>
  <dc:title>Slide 1</dc:title>
</cp:coreProperties>
</file>